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F53-1096-4926-8B14-B735F6F5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D2A0-0179-46CD-BF13-9C6A08C8D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DE81-A429-4978-8656-928A72A0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E94-F043-4686-994D-043460289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360F-817C-4B98-BCEA-B7CB0268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40B-630C-4526-B723-D39D15F1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B8E-BC7E-49DF-8CF5-B43CACA5F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250E-AFB5-46F9-9EB5-4A22E5F5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D07-6CA0-437B-A8FF-7191E9B2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480-8D2B-48F9-83DD-69C8D3D5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431-AB62-469F-943A-73BC2BDF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DF9-1F23-4726-A422-103F8539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D94-5B3A-45B0-8EB2-1532AEBD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A01-7EF9-4E78-B9DE-FFD8E1F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A73-FBA4-4149-9519-1CB7276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126-961E-44D0-B6E4-7B83C68F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E1B-EE85-4D7E-90B6-F0FAEDEB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1D4-443B-466C-9D0B-7DDB82CF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99D-1A44-4B66-8FBD-C6FC68B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AD6-9842-4486-A4E1-39F6551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57D-0F9C-4251-88DA-7ECA070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A63-C705-48BD-83FD-BCA6D0A2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B6B-3F56-450F-83A6-6E4ABA6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CF8-DAD4-4B90-991B-A4C2647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F4E-0F3E-4CB0-8675-C2A1709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1789-C5BF-4B99-BF79-D45F7CBA4D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5(Rough Outlin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 these are meant to model whole class teaching practice, while, at the same time, being used for interv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hare what the research has told us about how students and teachers reacted to the materials and what happened to their academic perform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 research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go through a similar process with the Grade 9 proportional reasoning pack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bably begin with the open question on the next sl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Grade 9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Screen shot 2011-06-29 at 2.35.18 PM.png"/>
          <p:cNvPicPr/>
          <p:nvPr/>
        </p:nvPicPr>
        <p:blipFill>
          <a:blip r:embed="rId1"/>
          <a:stretch/>
        </p:blipFill>
        <p:spPr>
          <a:xfrm>
            <a:off x="1407960" y="0"/>
            <a:ext cx="63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naging  D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ocus on implementation strategies of materials like these, or others, and how we integrate them while working with othe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iscuss how Grade 9 teachers struggle more with the DI than Grade 6 and will brainstorm some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o one of the open questions in the GC 6 packages, probably the one on the next sl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5" descr="Screen shot 2011-06-29 at 2.20.38 PM.png"/>
          <p:cNvPicPr/>
          <p:nvPr/>
        </p:nvPicPr>
        <p:blipFill>
          <a:blip r:embed="rId1"/>
          <a:srcRect l="-13379" t="0" r="-13379" b="0"/>
          <a:stretch/>
        </p:blipFill>
        <p:spPr>
          <a:xfrm>
            <a:off x="457200" y="19051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, unlike what is the commonly held belief, an open question, rather than a highly structured approach, might be very appropriate for a struggling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hare how the 3-part Facilitator Guide material supports the importance of consolidation that focuses on the important math and supports the notion of a 3-part appro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provide copies of the lesson in question – Student and Facilit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, unlike what is the commonly held belief, the focus should be on closing conceptual gaps, not just procedural 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see that even the more structured activity takes the position that struggling students can and should think, not just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First activity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and explore the structure of a Grade 6 lesson, particularly the notion of the open vs structured and the idea of parallel lessons and how they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Then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discuss how they differ from teaching materials that would normally be used and w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d469b"/>
                </a:solidFill>
                <a:latin typeface="Arial"/>
              </a:rPr>
              <a:t>And…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21:22Z</dcterms:created>
  <dc:creator>PSteele</dc:creator>
  <dc:description/>
  <dc:language>en-US</dc:language>
  <cp:lastModifiedBy>Marian Small</cp:lastModifiedBy>
  <dcterms:modified xsi:type="dcterms:W3CDTF">2011-06-29T18:38:29Z</dcterms:modified>
  <cp:revision>282</cp:revision>
  <dc:subject/>
  <dc:title>Slide 1</dc:title>
</cp:coreProperties>
</file>